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CABD-8A23-4761-8544-3E7D6FE9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1D1-CA61-4DBA-BF94-FBF63A6F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54E-DBDA-40B3-BF0A-D8CD95D6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27A6-231F-4126-BEC8-093771BA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5FDC-11F7-4324-8F6D-139C667C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9D42-9A69-47B5-B425-CB0440AD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F40D-779E-41EB-ADF9-27F3E394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CACC-438C-4E3A-A5F6-3BD89D60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F110-DFB5-4789-9C63-FBD67940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C26A-595B-4CC1-A0C7-E30CE638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F694-5058-498B-B963-D011BCFB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1ECD-10F0-479B-98B0-4C0478A6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2918-D02A-4E2A-B919-DA6A1A52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62A1-6008-4CA4-AAA9-DD3EFDF4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DF33-FF33-499E-A15E-E7BC757A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673F-BD5F-4967-BFC1-C3D828EA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AF88-241B-4365-985E-277C9723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BDC-E4CF-4031-90B8-9BF7DBDD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DD4-62AD-43D1-B81B-DF2FC2F9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9378-E683-44EC-897B-F83CD511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E32F-FA52-43A4-B9FC-B8312FE4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7BE-0173-4501-AFFF-211FF96E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04EE-9BCE-49EE-8EB5-EF208FD9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280-E313-46F6-BFA2-05D56552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BAFE-E330-46AF-B90F-F1F1D0AC0F6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250920" y="134136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16000" y="1341360"/>
            <a:ext cx="863640" cy="287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979640" y="1341360"/>
            <a:ext cx="863640" cy="287280"/>
          </a:xfrm>
          <a:prstGeom prst="rect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2843280" y="1341360"/>
            <a:ext cx="865080" cy="287280"/>
          </a:xfrm>
          <a:prstGeom prst="rect">
            <a:avLst/>
          </a:prstGeom>
          <a:solidFill>
            <a:srgbClr val="cc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572000" y="1341360"/>
            <a:ext cx="863640" cy="287280"/>
          </a:xfrm>
          <a:prstGeom prst="rect">
            <a:avLst/>
          </a:prstGeom>
          <a:solidFill>
            <a:srgbClr val="99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3708360" y="1341360"/>
            <a:ext cx="863640" cy="287280"/>
          </a:xfrm>
          <a:prstGeom prst="rect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5435640" y="1341360"/>
            <a:ext cx="865080" cy="28728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6300720" y="1341360"/>
            <a:ext cx="863640" cy="28728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7164360" y="1341360"/>
            <a:ext cx="863640" cy="28728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8028000" y="134928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250920" y="134136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116000" y="1341360"/>
            <a:ext cx="863640" cy="287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979640" y="1341360"/>
            <a:ext cx="863640" cy="287280"/>
          </a:xfrm>
          <a:prstGeom prst="rect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843280" y="1341360"/>
            <a:ext cx="865080" cy="287280"/>
          </a:xfrm>
          <a:prstGeom prst="rect">
            <a:avLst/>
          </a:prstGeom>
          <a:solidFill>
            <a:srgbClr val="cc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4572000" y="1341360"/>
            <a:ext cx="863640" cy="287280"/>
          </a:xfrm>
          <a:prstGeom prst="rect">
            <a:avLst/>
          </a:prstGeom>
          <a:solidFill>
            <a:srgbClr val="99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3708360" y="1341360"/>
            <a:ext cx="863640" cy="287280"/>
          </a:xfrm>
          <a:prstGeom prst="rect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5435640" y="1341360"/>
            <a:ext cx="865080" cy="28728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6300720" y="1341360"/>
            <a:ext cx="863640" cy="28728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7164360" y="1341360"/>
            <a:ext cx="863640" cy="28728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8028000" y="134928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684360" y="260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  <a:ea typeface="Calibri"/>
              </a:rPr>
              <a:t>PRIMARY SCIENCE</a:t>
            </a:r>
            <a:endParaRPr b="0" lang="en-US" sz="3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rebuchet MS"/>
                <a:ea typeface="Calibri"/>
              </a:rPr>
              <a:t>Education Consultancy</a:t>
            </a:r>
            <a:endParaRPr b="0" lang="en-US" sz="23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CE9D-D21A-4AD8-86A7-664E48901A1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2360" y="2130120"/>
            <a:ext cx="5759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new science curriculum for Years 5 and 6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Led by Naomi Hisc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naomi@primary-science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www.primary-science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Classes of lever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lass 1 le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has the load and the effort on opposite sides of the fulc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lass 2 le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has the load and the effort on the same side of the fulcrum, with the load nearer the fulcr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lass 3 lev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 the effort and the load are both on the same side of the fulcrum, but the effort is closer to the fulcrum than the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Investigate lever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rulers, forcemeters and w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primarygames.com/math/leverphysics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medes said,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ive me a place to stand and with a lever I will move the whole world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ulley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lleys are used to change the speed, direction of rotation, or turning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youtube.com/watch?v=LiBcur1aqcg&amp;src_vid=ndT35aqDfAQ&amp;feature=iv&amp;annotation_id=annotation_77617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drawbridge pulley system"/>
          <p:cNvPicPr/>
          <p:nvPr/>
        </p:nvPicPr>
        <p:blipFill>
          <a:blip r:embed="rId1"/>
          <a:stretch/>
        </p:blipFill>
        <p:spPr>
          <a:xfrm>
            <a:off x="3522600" y="5124600"/>
            <a:ext cx="20988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s, string, straws, sci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ain ideas for teaching new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xplore in more detail working scientif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Snapping thread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thread will you use to tie up a parc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Balloon rocket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how you can control how far the balloon rocket tra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ry out systematic investigations so that you can control how far it 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cse.ssl.berkeley.edu/energy/Resources/Living%20With%20a%20Star/------START%20HERE-------/3/images_3/illo_06b.gif"/>
          <p:cNvPicPr/>
          <p:nvPr/>
        </p:nvPicPr>
        <p:blipFill>
          <a:blip r:embed="rId1"/>
          <a:stretch/>
        </p:blipFill>
        <p:spPr>
          <a:xfrm>
            <a:off x="3017880" y="4022640"/>
            <a:ext cx="30668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Working scientificall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lanning different types of scientific enquiries to answer questions, including </a:t>
            </a:r>
            <a:r>
              <a:rPr b="0" lang="en-GB" sz="1900" spc="-1" strike="noStrike">
                <a:solidFill>
                  <a:srgbClr val="0000ff"/>
                </a:solidFill>
                <a:latin typeface="Arial"/>
              </a:rPr>
              <a:t>recognising and controlling variables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where necessar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aking measurements, using a range of scientific equipment, with increasing </a:t>
            </a:r>
            <a:r>
              <a:rPr b="0" lang="en-GB" sz="1900" spc="-1" strike="noStrike">
                <a:solidFill>
                  <a:srgbClr val="0000ff"/>
                </a:solidFill>
                <a:latin typeface="Arial"/>
              </a:rPr>
              <a:t>accuracy and precision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, taking </a:t>
            </a:r>
            <a:r>
              <a:rPr b="0" lang="en-GB" sz="1900" spc="-1" strike="noStrike">
                <a:solidFill>
                  <a:srgbClr val="0000ff"/>
                </a:solidFill>
                <a:latin typeface="Arial"/>
              </a:rPr>
              <a:t>repeat readings when appropriat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recording data and results of increasing complexity using scientific diagrams and labels, classification keys, tables, scatter graphs, bar and line graph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ff"/>
                </a:solidFill>
                <a:latin typeface="Arial"/>
              </a:rPr>
              <a:t>using test results to make predictions to set up further comparative and fair tes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reporting and presenting findings from enquiries, including conclusions, causal relationships and explanations of and </a:t>
            </a:r>
            <a:r>
              <a:rPr b="0" lang="en-GB" sz="1900" spc="-1" strike="noStrike">
                <a:solidFill>
                  <a:srgbClr val="0000ff"/>
                </a:solidFill>
                <a:latin typeface="Arial"/>
              </a:rPr>
              <a:t>degree of trust in results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, in oral and written forms such as displays and other presentation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dentifying scientific evidence that has been used to support or refute ideas or argument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Accuracy and precis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measure precisely if you have the correct equipment and can read the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are accurate in your measurements if they are all close to the ‘true’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the balloon rocket investigation were you accurate and prec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844280"/>
            <a:ext cx="8229600" cy="42814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79280" y="115920"/>
            <a:ext cx="8785440" cy="674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1" name="Picture 2" descr="http://handcreates.com/wp-content/uploads/2013/12/scissors.jpg"/>
          <p:cNvPicPr/>
          <p:nvPr/>
        </p:nvPicPr>
        <p:blipFill>
          <a:blip r:embed="rId2"/>
          <a:stretch/>
        </p:blipFill>
        <p:spPr>
          <a:xfrm>
            <a:off x="204840" y="100080"/>
            <a:ext cx="217656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http://www.daviddarling.info/images/curved_claw_hammer.jpg"/>
          <p:cNvPicPr/>
          <p:nvPr/>
        </p:nvPicPr>
        <p:blipFill>
          <a:blip r:embed="rId3"/>
          <a:stretch/>
        </p:blipFill>
        <p:spPr>
          <a:xfrm>
            <a:off x="179280" y="1974960"/>
            <a:ext cx="2190960" cy="2209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http://www.hiwtc.com/photo/products/22/18/08/180855.jpg"/>
          <p:cNvPicPr/>
          <p:nvPr/>
        </p:nvPicPr>
        <p:blipFill>
          <a:blip r:embed="rId4"/>
          <a:stretch/>
        </p:blipFill>
        <p:spPr>
          <a:xfrm>
            <a:off x="2411280" y="669960"/>
            <a:ext cx="2221200" cy="2332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http://danceswithfat.files.wordpress.com/2012/01/tongs.jpg"/>
          <p:cNvPicPr/>
          <p:nvPr/>
        </p:nvPicPr>
        <p:blipFill>
          <a:blip r:embed="rId5"/>
          <a:stretch/>
        </p:blipFill>
        <p:spPr>
          <a:xfrm>
            <a:off x="4356000" y="100080"/>
            <a:ext cx="3002040" cy="1800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https://encrypted-tbn0.gstatic.com/images?q=tbn:ANd9GcQnTSKPXG4B_de-XBUQ3GjMDHRj8nO6BIrLAQRJs43Fo4UA--BkFbYPteyP"/>
          <p:cNvPicPr/>
          <p:nvPr/>
        </p:nvPicPr>
        <p:blipFill>
          <a:blip r:embed="rId6"/>
          <a:stretch/>
        </p:blipFill>
        <p:spPr>
          <a:xfrm>
            <a:off x="139680" y="4014720"/>
            <a:ext cx="2752920" cy="165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http://www.ryman.co.uk/Catalogue/Ryman/large/global/images/main/07/0701114003.jpg"/>
          <p:cNvPicPr/>
          <p:nvPr/>
        </p:nvPicPr>
        <p:blipFill>
          <a:blip r:embed="rId7"/>
          <a:stretch/>
        </p:blipFill>
        <p:spPr>
          <a:xfrm>
            <a:off x="2198520" y="3002040"/>
            <a:ext cx="2210040" cy="1800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http://www.homenetproducts.co.uk/media/catalog/product/cache/1/image/9df78eab33525d08d6e5fb8d27136e95/w/h/wheelbarrow_parasene_0007.jpg"/>
          <p:cNvPicPr/>
          <p:nvPr/>
        </p:nvPicPr>
        <p:blipFill>
          <a:blip r:embed="rId8"/>
          <a:stretch/>
        </p:blipFill>
        <p:spPr>
          <a:xfrm>
            <a:off x="3378240" y="4219560"/>
            <a:ext cx="2784600" cy="180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4" descr="http://www.mikvahtaharah.com/media/catalog/product/cache/1/image/9df78eab33525d08d6e5fb8d27136e95/d/y/dy-4891_8.jpg"/>
          <p:cNvPicPr/>
          <p:nvPr/>
        </p:nvPicPr>
        <p:blipFill>
          <a:blip r:embed="rId9"/>
          <a:stretch/>
        </p:blipFill>
        <p:spPr>
          <a:xfrm>
            <a:off x="4421160" y="1916280"/>
            <a:ext cx="2046240" cy="2047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8" descr="http://www.materials.com/CROWBAR.JPG"/>
          <p:cNvPicPr/>
          <p:nvPr/>
        </p:nvPicPr>
        <p:blipFill>
          <a:blip r:embed="rId10"/>
          <a:stretch/>
        </p:blipFill>
        <p:spPr>
          <a:xfrm>
            <a:off x="7308720" y="260280"/>
            <a:ext cx="1751040" cy="556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6" descr="http://fc01.deviantart.net/fs71/i/2012/198/9/b/fishing_rod_by_hatalar205-d57jvh7.png"/>
          <p:cNvPicPr/>
          <p:nvPr/>
        </p:nvPicPr>
        <p:blipFill>
          <a:blip r:embed="rId11"/>
          <a:srcRect l="0" t="21096" r="0" b="23164"/>
          <a:stretch/>
        </p:blipFill>
        <p:spPr>
          <a:xfrm>
            <a:off x="166680" y="5950080"/>
            <a:ext cx="7923240" cy="88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http://www.cateringandleisure.com/productPanel/images/uploads/Bottle_opener.jpg"/>
          <p:cNvPicPr/>
          <p:nvPr/>
        </p:nvPicPr>
        <p:blipFill>
          <a:blip r:embed="rId12"/>
          <a:stretch/>
        </p:blipFill>
        <p:spPr>
          <a:xfrm>
            <a:off x="6332400" y="2255760"/>
            <a:ext cx="1528920" cy="1333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ttp://cdn.toolstation.com/images/130125-UK/images/library/stock/webbig/49992.jpg"/>
          <p:cNvPicPr/>
          <p:nvPr/>
        </p:nvPicPr>
        <p:blipFill>
          <a:blip r:embed="rId13"/>
          <a:stretch/>
        </p:blipFill>
        <p:spPr>
          <a:xfrm>
            <a:off x="6097680" y="3884760"/>
            <a:ext cx="176832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Lever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s://www.youtube.com/watch?v=E8RA9Kw_I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issors, pliers, hammer claws, nutcrackers, tongs, tweezers, stapler, bottle opener, wheel barrow, nail clippers, fishing rod, crow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are single levers, some are pairs of le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sr.photos3.fotosearch.com/bthumb/CSP/CSP583/k5835835.jpg"/>
          <p:cNvPicPr/>
          <p:nvPr/>
        </p:nvPicPr>
        <p:blipFill>
          <a:blip r:embed="rId1"/>
          <a:stretch/>
        </p:blipFill>
        <p:spPr>
          <a:xfrm>
            <a:off x="179280" y="320760"/>
            <a:ext cx="1619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ypes of lever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 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v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are one of three types, usually called 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ass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The class of a lever depends on the relative position of the load, effort and fulcr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 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a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is the object you are trying to m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 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is the force applied to move the l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 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lcru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(or 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iv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is the point where the load is pivo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8:55:18Z</dcterms:created>
  <dc:creator>Naomi</dc:creator>
  <dc:description/>
  <dc:language>en-US</dc:language>
  <cp:lastModifiedBy>Naomi Hiscock</cp:lastModifiedBy>
  <dcterms:modified xsi:type="dcterms:W3CDTF">2014-06-13T17:58:25Z</dcterms:modified>
  <cp:revision>96</cp:revision>
  <dc:subject/>
  <dc:title>Science coordinators’ meeting 22nd September 2011</dc:title>
</cp:coreProperties>
</file>